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46EBED-56B4-4DC4-B48F-D84BAC8F2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6F3A68-0A2A-4229-B3DE-0CEC51B03E8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7248A1-1C62-4EBC-B7B2-A4813A6B960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EC14B6-6031-4D61-A2FC-226864B3CE0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6410E8-DA62-4DCD-B621-1AD22A0B0B8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86B1F6-4F09-4115-8C4B-0A047FBFABC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64E1A2-2994-4753-831D-4928FF559F2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877F6A-3A29-41F9-BAD5-BCC708E04DC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1A9B7C-7DE7-4964-8578-CD468239C9D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A0BD89-5D19-4659-BD33-58F5EF71B12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B63710-20E7-49D6-B8A4-7DB3A6EEE5B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E02A90-6135-430B-B911-C9A8262C2F2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889C89-11AF-497E-BF7E-031EC7E428F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B4E-F91A-4B0C-83EA-C5C6B8A8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46D-52D5-4F87-96FF-C8208BB7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7B1-289C-44D4-BC62-B443B875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3CB-80BD-4E4D-A6A8-CAA55FC4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A152-AA01-41C8-9698-169A7E24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065D-7A0D-4160-A441-DE2D5B84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811C-7FAB-41C5-9FB8-DE6B91C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CB65-8990-4D40-8882-FFE6F94E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69F0-60CD-42F2-80F2-C71AC1E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EAD1-EE13-4924-9A19-F4423EB7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F76-D5BC-4EA0-A332-8C387A7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0C9-CBC5-4D7C-9DA4-D0B397E9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1800-4EDD-4083-AC42-F914E65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4F5D-F3B9-4FD4-BFD4-270C5FF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D44B-E852-4B5E-A74C-C24DA284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CB36-D752-4A20-B7B6-026AC5C9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E87F-E4F7-4C3B-936F-CA38AECD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D7C-BD40-41BF-99CD-14B70B4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664-3E4F-47D5-B489-CCF99E54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607-6ED8-43D5-8525-2C12C2F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7F2-01A7-4B82-9908-A0FB1BFE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322-0F2A-4ACB-9837-570331F8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625-2E2A-4150-9BD7-8A13E83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A1C-D3E7-4D78-9D1A-1E7AFA0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5B2-DE7C-4729-A61D-EC23146CC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4B99-0E5D-4555-9EC3-14841E0068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Par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7" name="Picture 8" descr="Screen Shot 2012-09-25 at 11.04.41 AM.pn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178" name="Rettangolo arrotondato 10"/>
          <p:cNvSpPr/>
          <p:nvPr/>
        </p:nvSpPr>
        <p:spPr>
          <a:xfrm>
            <a:off x="1403280" y="1916280"/>
            <a:ext cx="6769080" cy="1225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1" name="Picture 3" descr="Screen Shot 2012-09-25 at 11.06.10 AM.png"/>
          <p:cNvPicPr/>
          <p:nvPr/>
        </p:nvPicPr>
        <p:blipFill>
          <a:blip r:embed="rId1"/>
          <a:stretch/>
        </p:blipFill>
        <p:spPr>
          <a:xfrm>
            <a:off x="34920" y="-3348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182" name="Freccia in su 1"/>
          <p:cNvSpPr/>
          <p:nvPr/>
        </p:nvSpPr>
        <p:spPr>
          <a:xfrm>
            <a:off x="2627280" y="476280"/>
            <a:ext cx="792360" cy="8953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nguage-specific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of the above features embody transformations that a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-specific a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, application-specif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“plug-in” addenda to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th open source and commercial plug-ins are available for handling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2.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stical properties of tex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properties of tex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kens are not distributed uniformly. They follow the so called  “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Zipf La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 tokens are very frequ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middle sized set has medium frequen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are r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rst 100 tokens sum up to 50% of the text, and many of them ar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top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short-zipf"/>
          <p:cNvPicPr/>
          <p:nvPr/>
        </p:nvPicPr>
        <p:blipFill>
          <a:blip r:embed="rId1"/>
          <a:stretch/>
        </p:blipFill>
        <p:spPr>
          <a:xfrm>
            <a:off x="826920" y="1682640"/>
            <a:ext cx="7824960" cy="51753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890280" y="6922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Arial"/>
              </a:rPr>
              <a:t>An example of “Zipf curve”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log-log plot for a Zipf’s curv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3" name="Picture 3" descr="ZipfsLaw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1692000"/>
            <a:ext cx="8135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-th most frequent token has frequency f(k) approximately 1/k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quivalently, the product of the frequency f(k) of a token and its rank k is a cons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7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Scale invariant: f(b*k) = b</a:t>
            </a:r>
            <a:r>
              <a:rPr b="0" lang="it-IT" sz="3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31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 * f(k)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Zipf Law, in detai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4861080" y="4005360"/>
            <a:ext cx="2071440" cy="1447560"/>
            <a:chOff x="4861080" y="4005360"/>
            <a:chExt cx="2071440" cy="1447560"/>
          </a:xfrm>
        </p:grpSpPr>
        <p:sp>
          <p:nvSpPr>
            <p:cNvPr id="197" name="Rectangle 5"/>
            <p:cNvSpPr/>
            <p:nvPr/>
          </p:nvSpPr>
          <p:spPr>
            <a:xfrm>
              <a:off x="4861080" y="4005360"/>
              <a:ext cx="2057040" cy="144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k) = c /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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6623640" y="414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9" name="Rectangle 7"/>
          <p:cNvSpPr/>
          <p:nvPr/>
        </p:nvSpPr>
        <p:spPr>
          <a:xfrm>
            <a:off x="1692360" y="3933720"/>
            <a:ext cx="20574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k * f(k) = 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f(k) = c  /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079960" y="544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General L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istribution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vs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umulative dist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2" name="Picture 3" descr="C:\Documents and Settings\ferragin\Desktop\325px-Zipf_distribution_PMF.png"/>
          <p:cNvPicPr/>
          <p:nvPr/>
        </p:nvPicPr>
        <p:blipFill>
          <a:blip r:embed="rId1"/>
          <a:stretch/>
        </p:blipFill>
        <p:spPr>
          <a:xfrm>
            <a:off x="142920" y="1714680"/>
            <a:ext cx="4143240" cy="3109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Documents and Settings\ferragin\Desktop\325px-Zipf_distribution_CMF.png"/>
          <p:cNvPicPr/>
          <p:nvPr/>
        </p:nvPicPr>
        <p:blipFill>
          <a:blip r:embed="rId2"/>
          <a:stretch/>
        </p:blipFill>
        <p:spPr>
          <a:xfrm>
            <a:off x="4857840" y="1714680"/>
            <a:ext cx="4143240" cy="31114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9"/>
          <p:cNvGrpSpPr/>
          <p:nvPr/>
        </p:nvGrpSpPr>
        <p:grpSpPr>
          <a:xfrm>
            <a:off x="520560" y="5373720"/>
            <a:ext cx="8172360" cy="1527120"/>
            <a:chOff x="520560" y="5373720"/>
            <a:chExt cx="8172360" cy="1527120"/>
          </a:xfrm>
        </p:grpSpPr>
        <p:sp>
          <p:nvSpPr>
            <p:cNvPr id="205" name="AutoShape 10"/>
            <p:cNvSpPr/>
            <p:nvPr/>
          </p:nvSpPr>
          <p:spPr>
            <a:xfrm>
              <a:off x="520560" y="5373720"/>
              <a:ext cx="8172360" cy="119844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865440" y="5527080"/>
              <a:ext cx="742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Sum after the k-th element is ≤ f(k) * k/(s-1)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Sum up to the k-th element is ≥ f(k) *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7" name="Text Box 12"/>
          <p:cNvSpPr/>
          <p:nvPr/>
        </p:nvSpPr>
        <p:spPr>
          <a:xfrm>
            <a:off x="4773240" y="478620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Power-law with smaller expon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79440" y="482904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Log-log plo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tatistical properties of tex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number of distinct tokens grows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so called  “</a:t>
            </a:r>
            <a:r>
              <a:rPr b="0" lang="en-US" sz="2000" spc="-1" strike="noStrike">
                <a:solidFill>
                  <a:srgbClr val="ff3300"/>
                </a:solidFill>
                <a:latin typeface="Lucida Sans"/>
              </a:rPr>
              <a:t>Heaps La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”  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1, tipically 0.5, where n is the total number of toke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average token length grows a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log n)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esting words are the ones with medium frequency (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Luh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1" name="Picture 4" descr="zipf-resolving"/>
          <p:cNvPicPr/>
          <p:nvPr/>
        </p:nvPicPr>
        <p:blipFill>
          <a:blip r:embed="rId1"/>
          <a:srcRect l="0" t="0" r="0" b="17230"/>
          <a:stretch/>
        </p:blipFill>
        <p:spPr>
          <a:xfrm>
            <a:off x="5145120" y="4649760"/>
            <a:ext cx="3890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93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0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01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7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108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11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112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113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4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5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6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7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8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19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0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1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2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3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24" name="AutoShape 44"/>
              <p:cNvCxnSpPr>
                <a:stCxn id="119" idx="3"/>
                <a:endCxn id="120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5" name="AutoShape 45"/>
              <p:cNvCxnSpPr>
                <a:stCxn id="120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6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27" name="AutoShape 47"/>
              <p:cNvCxnSpPr>
                <a:stCxn id="126" idx="3"/>
                <a:endCxn id="121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8" name="AutoShape 48"/>
              <p:cNvCxnSpPr>
                <a:stCxn id="121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9" name="AutoShape 49"/>
              <p:cNvCxnSpPr>
                <a:stCxn id="122" idx="3"/>
                <a:endCxn id="123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30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131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3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4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5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136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52" descr="Screen Shot 2012-09-25 at 11.11.30 AM.png"/>
          <p:cNvPicPr/>
          <p:nvPr/>
        </p:nvPicPr>
        <p:blipFill>
          <a:blip r:embed="rId6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sing a docu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format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df/word/excel/htm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language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character set is in use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609480" y="43797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Each of these is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  <a:ea typeface="Arial"/>
              </a:rPr>
              <a:t>classification problem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1030"/>
          <p:cNvSpPr/>
          <p:nvPr/>
        </p:nvSpPr>
        <p:spPr>
          <a:xfrm>
            <a:off x="786960" y="5576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But these tasks are often done heuristically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riends, Romans and Countrym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oke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tok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n instance of a sequence of charact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such token is now a candidate for an index entry, aft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urther process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hat are valid tokens to emi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ebensversicherungsgesellschaftsangestellte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= life insurance company employee in german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2" name="Picture 3" descr="Screen Shot 2012-09-25 at 11.00.33 AM.png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153" name="Rettangolo arrotondato 1"/>
          <p:cNvSpPr/>
          <p:nvPr/>
        </p:nvSpPr>
        <p:spPr>
          <a:xfrm>
            <a:off x="1547640" y="450864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6" name="Picture 3" descr="Screen Shot 2012-09-25 at 11.07.28 AM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57" name="Rettangolo arrotondato 5"/>
          <p:cNvSpPr/>
          <p:nvPr/>
        </p:nvSpPr>
        <p:spPr>
          <a:xfrm>
            <a:off x="2050920" y="189000"/>
            <a:ext cx="649440" cy="7189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718920"/>
              <a:gd name="textAreaBottom" fmla="*/ 687240 h 71892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" name="Picture 3" descr="Screen Shot 2012-09-25 at 10.54.11 AM.pn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4" descr="Screen Shot 2012-09-25 at 10.50.55 AM.png"/>
          <p:cNvPicPr/>
          <p:nvPr/>
        </p:nvPicPr>
        <p:blipFill>
          <a:blip r:embed="rId1"/>
          <a:stretch/>
        </p:blipFill>
        <p:spPr>
          <a:xfrm>
            <a:off x="57240" y="361800"/>
            <a:ext cx="9029520" cy="6134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Screen Shot 2012-09-25 at 10.49.29 AM.png"/>
          <p:cNvPicPr/>
          <p:nvPr/>
        </p:nvPicPr>
        <p:blipFill>
          <a:blip r:embed="rId2"/>
          <a:stretch/>
        </p:blipFill>
        <p:spPr>
          <a:xfrm>
            <a:off x="0" y="380880"/>
            <a:ext cx="90057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ttangolo arrotondato 6"/>
          <p:cNvSpPr/>
          <p:nvPr/>
        </p:nvSpPr>
        <p:spPr>
          <a:xfrm>
            <a:off x="1547640" y="465300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8" name="Picture 3" descr="Screen Shot 2012-09-25 at 11.02.27 AM.pn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69" name="Rettangolo arrotondato 4"/>
          <p:cNvSpPr/>
          <p:nvPr/>
        </p:nvSpPr>
        <p:spPr>
          <a:xfrm>
            <a:off x="1258920" y="5877000"/>
            <a:ext cx="67690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13T06:34:02Z</dcterms:modified>
  <cp:revision>1203</cp:revision>
  <dc:subject/>
  <dc:title>Web Algorithmics</dc:title>
</cp:coreProperties>
</file>